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37B-8D0A-4676-9767-22B84A80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2F85-DEE6-4CDF-83A3-793BD844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A1EB-5E99-4138-B743-1EFF38CF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6D8C-7A8A-456D-BE26-6E089BFF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34AC-41BE-4444-9414-D0112C40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9059-D23D-4A4C-90AF-EED4BC88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F7C3-3086-466E-872F-34458E3D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CDAA-1900-4151-A5B6-2C605BED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0A4C-2ACF-49F9-8145-B1FD75BC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1EF5-2EE0-454A-A44C-1C843937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1013-21C6-4FEA-899F-A3BED952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9F0C-B2FE-426C-ADDC-12B4862E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CE42-D30D-4B07-81E8-15A4ED8E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D9A0-54F8-43A9-8557-865D2EA9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2077-CEE1-482C-AA8A-AD47BBE5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B618-C152-420A-AE57-8B1B28A0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3AEF-BF76-42D4-9EB9-37078295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DD13-7FCA-4B70-BCA4-E62D1751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FDA9-7AB5-443D-8C34-9B81D056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4C5-5407-4E65-9390-78E94A85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9086-3791-4DDC-971B-A354646B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00B1-4DDA-4570-99A8-A8998A48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8657-ACD5-4FCA-B8FC-CA1C2750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0BC0-6136-409A-9171-FA911F1C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6E91-ABE0-4AD6-90B5-159D72057F1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7F60-FDF2-4A50-8556-DC881163E00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a3d7a"/>
                </a:solidFill>
                <a:latin typeface="Subway"/>
              </a:rPr>
              <a:t>Living Things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Subway"/>
              </a:rPr>
              <a:t>Task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Sub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Subway"/>
              </a:rPr>
              <a:t>Everyo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Subway"/>
              </a:rPr>
              <a:t>Make a list of the 7 characteristics of Living Things (MRS NERG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Subway"/>
              </a:rPr>
              <a:t>Make a list of the 5 Kingdoms of Living Things (try to write an example for each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Sub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Subway"/>
              </a:rPr>
              <a:t>Extens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Subway"/>
              </a:rPr>
              <a:t>Research one of the 5 Kingdoms in more detai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Subway"/>
              </a:rPr>
              <a:t>Make a poster / fact page / fact fil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7188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4876920"/>
            <a:ext cx="3276720" cy="1752480"/>
          </a:xfrm>
          <a:prstGeom prst="cloudCallout">
            <a:avLst>
              <a:gd name="adj1" fmla="val -75194"/>
              <a:gd name="adj2" fmla="val -1331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Subway"/>
              </a:rPr>
              <a:t>If you get stuck use the key word lists and information on your table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Subway"/>
              </a:rPr>
              <a:t>How do we know is something is ‘living’?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Subway"/>
              </a:rPr>
              <a:t>All living things are characterised as being able to do </a:t>
            </a:r>
            <a:r>
              <a:rPr b="0" lang="en-US" sz="2000" spc="-1" strike="noStrike" u="sng">
                <a:solidFill>
                  <a:srgbClr val="5b5249"/>
                </a:solidFill>
                <a:uFillTx/>
                <a:latin typeface="Subway"/>
              </a:rPr>
              <a:t>seven</a:t>
            </a:r>
            <a:r>
              <a:rPr b="0" lang="en-US" sz="2000" spc="-1" strike="noStrike">
                <a:solidFill>
                  <a:srgbClr val="5b5249"/>
                </a:solidFill>
                <a:latin typeface="Subway"/>
              </a:rPr>
              <a:t> thing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Subway"/>
              </a:rPr>
              <a:t>These are usually remembered by the mnemonic MRS NER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Subway"/>
              </a:rPr>
              <a:t>M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Subway"/>
              </a:rPr>
              <a:t>R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Subway"/>
              </a:rPr>
              <a:t>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Subway"/>
              </a:rPr>
              <a:t>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Subway"/>
              </a:rPr>
              <a:t>E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Subway"/>
              </a:rPr>
              <a:t>R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Subway"/>
              </a:rPr>
              <a:t>G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43600" y="4114800"/>
            <a:ext cx="28195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Subway"/>
              </a:rPr>
              <a:t>Can you guess what these letters stand for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Subway"/>
              </a:rPr>
              <a:t>The 7 characteristics of Living Th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ubway"/>
              </a:rPr>
              <a:t>M</a:t>
            </a:r>
            <a:r>
              <a:rPr b="0" lang="en-US" sz="2800" spc="-1" strike="noStrike">
                <a:solidFill>
                  <a:srgbClr val="5b5249"/>
                </a:solidFill>
                <a:latin typeface="Subway"/>
              </a:rPr>
              <a:t>ovement – </a:t>
            </a:r>
            <a:r>
              <a:rPr b="0" lang="en-US" sz="1800" spc="-1" strike="noStrike">
                <a:solidFill>
                  <a:srgbClr val="5b5249"/>
                </a:solidFill>
                <a:latin typeface="Subway"/>
              </a:rPr>
              <a:t>Animals move to find food and keep away from predators, plants move to face the ligh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ubway"/>
              </a:rPr>
              <a:t>R</a:t>
            </a:r>
            <a:r>
              <a:rPr b="0" lang="en-US" sz="2800" spc="-1" strike="noStrike">
                <a:solidFill>
                  <a:srgbClr val="5b5249"/>
                </a:solidFill>
                <a:latin typeface="Subway"/>
              </a:rPr>
              <a:t>eproduction – </a:t>
            </a:r>
            <a:r>
              <a:rPr b="0" lang="en-US" sz="1800" spc="-1" strike="noStrike">
                <a:solidFill>
                  <a:srgbClr val="5b5249"/>
                </a:solidFill>
                <a:latin typeface="Subway"/>
              </a:rPr>
              <a:t>the ability to produce offspring to keep the species in existen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ubway"/>
              </a:rPr>
              <a:t>S</a:t>
            </a:r>
            <a:r>
              <a:rPr b="0" lang="en-US" sz="2800" spc="-1" strike="noStrike">
                <a:solidFill>
                  <a:srgbClr val="5b5249"/>
                </a:solidFill>
                <a:latin typeface="Subway"/>
              </a:rPr>
              <a:t>ensitivity – </a:t>
            </a:r>
            <a:r>
              <a:rPr b="0" lang="en-US" sz="1800" spc="-1" strike="noStrike">
                <a:solidFill>
                  <a:srgbClr val="5b5249"/>
                </a:solidFill>
                <a:latin typeface="Subway"/>
              </a:rPr>
              <a:t>responding and reacting to the environmen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ubway"/>
              </a:rPr>
              <a:t>N</a:t>
            </a:r>
            <a:r>
              <a:rPr b="0" lang="en-US" sz="2800" spc="-1" strike="noStrike">
                <a:solidFill>
                  <a:srgbClr val="5b5249"/>
                </a:solidFill>
                <a:latin typeface="Subway"/>
              </a:rPr>
              <a:t>utrition – </a:t>
            </a:r>
            <a:r>
              <a:rPr b="0" lang="en-US" sz="1800" spc="-1" strike="noStrike">
                <a:solidFill>
                  <a:srgbClr val="5b5249"/>
                </a:solidFill>
                <a:latin typeface="Subway"/>
              </a:rPr>
              <a:t>Animals need food for respiration, plants need minerals from the soil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ubway"/>
              </a:rPr>
              <a:t>E</a:t>
            </a:r>
            <a:r>
              <a:rPr b="0" lang="en-US" sz="2800" spc="-1" strike="noStrike">
                <a:solidFill>
                  <a:srgbClr val="5b5249"/>
                </a:solidFill>
                <a:latin typeface="Subway"/>
              </a:rPr>
              <a:t>xcretion – </a:t>
            </a:r>
            <a:r>
              <a:rPr b="0" lang="en-US" sz="1800" spc="-1" strike="noStrike">
                <a:solidFill>
                  <a:srgbClr val="5b5249"/>
                </a:solidFill>
                <a:latin typeface="Subway"/>
              </a:rPr>
              <a:t>Getting rid of was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ubway"/>
              </a:rPr>
              <a:t>R</a:t>
            </a:r>
            <a:r>
              <a:rPr b="0" lang="en-US" sz="2800" spc="-1" strike="noStrike">
                <a:solidFill>
                  <a:srgbClr val="5b5249"/>
                </a:solidFill>
                <a:latin typeface="Subway"/>
              </a:rPr>
              <a:t>espiration – </a:t>
            </a:r>
            <a:r>
              <a:rPr b="0" lang="en-US" sz="1800" spc="-1" strike="noStrike">
                <a:solidFill>
                  <a:srgbClr val="5b5249"/>
                </a:solidFill>
                <a:latin typeface="Subway"/>
              </a:rPr>
              <a:t>Turning food into energy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ubway"/>
              </a:rPr>
              <a:t>G</a:t>
            </a:r>
            <a:r>
              <a:rPr b="0" lang="en-US" sz="2800" spc="-1" strike="noStrike">
                <a:solidFill>
                  <a:srgbClr val="5b5249"/>
                </a:solidFill>
                <a:latin typeface="Subway"/>
              </a:rPr>
              <a:t>rowth – </a:t>
            </a:r>
            <a:r>
              <a:rPr b="0" lang="en-US" sz="1800" spc="-1" strike="noStrike">
                <a:solidFill>
                  <a:srgbClr val="5b5249"/>
                </a:solidFill>
                <a:latin typeface="Subway"/>
              </a:rPr>
              <a:t>Growing larger and stronger </a:t>
            </a:r>
            <a:r>
              <a:rPr b="0" lang="en-US" sz="1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5b5249"/>
                </a:solidFill>
                <a:latin typeface="Subway"/>
              </a:rPr>
              <a:t> becoming adult siz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Subway"/>
              </a:rPr>
              <a:t>Classification of Living Th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1371600"/>
            <a:ext cx="2590560" cy="1676520"/>
          </a:xfrm>
          <a:prstGeom prst="wedgeRoundRectCallout">
            <a:avLst>
              <a:gd name="adj1" fmla="val -38236"/>
              <a:gd name="adj2" fmla="val 68277"/>
              <a:gd name="adj3" fmla="val 16667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Subway"/>
              </a:rPr>
              <a:t>Everything that is living can be sorted into these 5 kingdom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249228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a3d7a"/>
                </a:solidFill>
                <a:latin typeface="Times New Roman"/>
              </a:rPr>
              <a:t>Kingdom Monera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68240" y="320040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a3d7a"/>
                </a:solidFill>
                <a:latin typeface="Times New Roman"/>
              </a:rPr>
              <a:t>Protist Kingd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7640" y="443700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Fungi Kingd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551664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Plant Kingd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1640" y="436572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Animal Kingd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Subway"/>
              </a:rPr>
              <a:t>Kingdom Monera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Subway"/>
              </a:rPr>
              <a:t>Tiny, single-celled organism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Subway"/>
              </a:rPr>
              <a:t>Do not have a nucle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Subway"/>
              </a:rPr>
              <a:t>E.g. bacteri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536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867280" y="3559320"/>
            <a:ext cx="295596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Subway"/>
              </a:rPr>
              <a:t>Protist Kingdo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Subway"/>
              </a:rPr>
              <a:t>Single-celled organisms with a nucle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Subway"/>
              </a:rPr>
              <a:t>Live in damp places of wa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Subway"/>
              </a:rPr>
              <a:t>E.g. amoeb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4784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859280" y="4221000"/>
            <a:ext cx="3564000" cy="20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Subway"/>
              </a:rPr>
              <a:t>Fungi Kingdo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Subway"/>
              </a:rPr>
              <a:t>Body is made up of a network of threads called hypha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Subway"/>
              </a:rPr>
              <a:t>E.g moulds, mushroom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7196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904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58120" y="3860640"/>
            <a:ext cx="209376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Subway"/>
              </a:rPr>
              <a:t>Plant Kingdo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Subway"/>
              </a:rPr>
              <a:t>Multicellular – made up of lots of cell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Subway"/>
              </a:rPr>
              <a:t>Make their own food by photosynthesi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Subway"/>
              </a:rPr>
              <a:t>Lots of examples: flowering plants / non-flowering plan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387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9556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24360" y="4049640"/>
            <a:ext cx="304992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Subway"/>
              </a:rPr>
              <a:t>Animal Kingdo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Subway"/>
              </a:rPr>
              <a:t>Multicellular – made up of may specialised cell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Subway"/>
              </a:rPr>
              <a:t>Cannot make own foo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Subway"/>
              </a:rPr>
              <a:t>Can be further classified into vertebrates and non-vertebrates then into classes such as amphibians, reptiles, birds, mammal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5264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85680" y="7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27640" y="4967280"/>
            <a:ext cx="243360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9T16:47:01Z</dcterms:created>
  <dc:creator>SEC</dc:creator>
  <dc:description/>
  <dc:language>en-US</dc:language>
  <cp:lastModifiedBy>Pitchford</cp:lastModifiedBy>
  <dcterms:modified xsi:type="dcterms:W3CDTF">2006-11-01T13:55:45Z</dcterms:modified>
  <cp:revision>7</cp:revision>
  <dc:subject/>
  <dc:title>Living Things</dc:title>
</cp:coreProperties>
</file>